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710-2FEF-447C-84EB-46985959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C5D-1625-4243-B123-6192798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385-107B-4FDD-829C-69517138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D48-9070-4648-A960-6B312165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903-FEE2-419E-B0D1-CAB51EA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860-5A98-4050-882F-66094492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8A9-1CB2-4F7B-9E47-038A6DA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A2-DC8B-46B1-928C-5DE648D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BE8-01B8-4E68-9066-2DAC926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8F0-A837-4BA1-91D3-B26ECC2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3A2-4F03-493D-B5E0-19231F4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B5F-AE33-4080-A336-C859D6F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51E-4B8D-48FF-96D9-E20F655CD7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A Linear in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Just as linear equations have two forms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Linear inequations  also have two forms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143160" y="2357280"/>
          <a:ext cx="178596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357280"/>
                    <a:ext cx="178596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3286080" y="4572000"/>
          <a:ext cx="17337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4572000"/>
                    <a:ext cx="17337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ing a linear inequa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teps for graphing a linear inequation are the same as for linear equations, but with one extra step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ph of a linear equation is a straight line. The graph of a linear inequation is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reg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r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half-plane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emporarily treat the inequation as an equation to find the boundary of the reg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Find two points using the equation to graph the boundary. The two points should be reasonably far apart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Plot the two points from Step 2 and join them with a straight line. Extend the line. If the inequations are &lt; or &gt; use a dotted line. If they are              use a solid line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Shade in a region either above or below the line depending on the inequation sign. The convention is to shade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not required.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ny point in the shaded region is not a solution to the inequation. The unshaded region is called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solution region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feasible reg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NOTE: Your calculator will shade the solution reg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1428840" y="3357720"/>
          <a:ext cx="10000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357720"/>
                    <a:ext cx="10000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11A, Q.1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: Ex 11A, Q. 2b, d, 4, 5, 8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1:21:40Z</dcterms:created>
  <dc:creator>08843474</dc:creator>
  <dc:description/>
  <dc:language>en-US</dc:language>
  <cp:lastModifiedBy>08843474</cp:lastModifiedBy>
  <dcterms:modified xsi:type="dcterms:W3CDTF">2011-06-16T01:49:07Z</dcterms:modified>
  <cp:revision>2</cp:revision>
  <dc:subject/>
  <dc:title>11A Linear inequations</dc:title>
</cp:coreProperties>
</file>